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46F-0EBC-4DDA-B50D-E6716606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0D4-0F30-4849-90B9-228CBBC3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FD5-6D63-446E-A3CD-FC7F64AE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4B9-F4EE-4016-A4BF-8868C5D6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CF00-8ED1-4A64-B7BE-6DE37CE8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B3BF-1A0F-423F-B945-6550F2A9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A00C-F67D-4C09-B3D5-FE262A05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BD62-0115-45C4-AAA7-402AE7BA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C6E2-46A7-4FBD-B649-7ED4B28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E7FC-BF2B-483D-91E6-51EFC10B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B6A4-36A3-496A-8B8E-61B913C7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690-DE54-4D7E-87FF-11838067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61A1-F09D-49FE-B511-BBD8785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1BAC-F27F-4D4C-8268-B9145B2D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7C79-4A8A-4E36-AFC7-C1C91E02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E6F9-05FF-48D1-87CC-61F22585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8C20-BBD8-425D-9018-B334CF12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A18-5D1F-47DD-9AC7-4C83A4A0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83B-AE1C-433E-B679-C1DB96A7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293-2497-4981-8023-8B6EA351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BA7-0693-45CF-9B46-01DA6238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A97-B97D-4B60-978C-0B48DB2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1C0-7566-445A-A97E-7CB3990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AB4-0F6D-4B8C-99CD-828D34EC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F764-9105-4BA1-AC43-7CCFEEEF19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3CFE-8429-4B5F-B736-9AD4689C29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76360" y="3071520"/>
            <a:ext cx="640080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ай шифров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56r4"/>
          <p:cNvPicPr/>
          <p:nvPr/>
        </p:nvPicPr>
        <p:blipFill>
          <a:blip r:embed="rId1"/>
          <a:stretch/>
        </p:blipFill>
        <p:spPr>
          <a:xfrm>
            <a:off x="4071960" y="47862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857160" y="549360"/>
            <a:ext cx="77155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артова система координа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3" descr="C:\Documents and Settings\мама\Мои документы\Мои результаты сканировани\2010-01 (янв)\сканирование0014.jpg"/>
          <p:cNvPicPr/>
          <p:nvPr/>
        </p:nvPicPr>
        <p:blipFill>
          <a:blip r:embed="rId1"/>
          <a:stretch/>
        </p:blipFill>
        <p:spPr>
          <a:xfrm>
            <a:off x="1143000" y="2000160"/>
            <a:ext cx="721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5" descr="C:\Documents and Settings\мама\Мои документы\Мои результаты сканировани\2010-01 (янв)\сканирование0007.jpg"/>
          <p:cNvPicPr/>
          <p:nvPr/>
        </p:nvPicPr>
        <p:blipFill>
          <a:blip r:embed="rId1"/>
          <a:stretch/>
        </p:blipFill>
        <p:spPr>
          <a:xfrm>
            <a:off x="1285920" y="2071800"/>
            <a:ext cx="638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3" descr="C:\Documents and Settings\мама\Мои документы\Мои результаты сканировани\2010-01 (янв)\сканирование0002.jpg"/>
          <p:cNvPicPr/>
          <p:nvPr/>
        </p:nvPicPr>
        <p:blipFill>
          <a:blip r:embed="rId1"/>
          <a:stretch/>
        </p:blipFill>
        <p:spPr>
          <a:xfrm>
            <a:off x="1357200" y="2214720"/>
            <a:ext cx="60944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Picture 4" descr="C:\Documents and Settings\мама\Мои документы\Мои результаты сканировани\2010-01 (янв)\сканирование0006.jpg"/>
          <p:cNvPicPr/>
          <p:nvPr/>
        </p:nvPicPr>
        <p:blipFill>
          <a:blip r:embed="rId1"/>
          <a:stretch/>
        </p:blipFill>
        <p:spPr>
          <a:xfrm>
            <a:off x="1357200" y="1928880"/>
            <a:ext cx="5194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3" descr="C:\Documents and Settings\мама\Мои документы\Мои результаты сканировани\2010-01 (янв)\сканирование0009.jpg"/>
          <p:cNvPicPr/>
          <p:nvPr/>
        </p:nvPicPr>
        <p:blipFill>
          <a:blip r:embed="rId1"/>
          <a:stretch/>
        </p:blipFill>
        <p:spPr>
          <a:xfrm>
            <a:off x="285840" y="1785960"/>
            <a:ext cx="84978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2" descr="C:\Documents and Settings\мама\Мои документы\Мои результаты сканировани\2010-01 (янв)\сканирование0004.jpg"/>
          <p:cNvPicPr/>
          <p:nvPr/>
        </p:nvPicPr>
        <p:blipFill>
          <a:blip r:embed="rId1"/>
          <a:stretch/>
        </p:blipFill>
        <p:spPr>
          <a:xfrm>
            <a:off x="1714680" y="2428920"/>
            <a:ext cx="5287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2" descr="C:\Documents and Settings\мама\Мои документы\Мои результаты сканировани\2010-01 (янв)\сканирование0008.jpg"/>
          <p:cNvPicPr/>
          <p:nvPr/>
        </p:nvPicPr>
        <p:blipFill>
          <a:blip r:embed="rId1"/>
          <a:stretch/>
        </p:blipFill>
        <p:spPr>
          <a:xfrm>
            <a:off x="1714680" y="1928880"/>
            <a:ext cx="528624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2" descr="C:\Documents and Settings\мама\Мои документы\Мои результаты сканировани\2010-01 (янв)\сканирование0013.jpg"/>
          <p:cNvPicPr/>
          <p:nvPr/>
        </p:nvPicPr>
        <p:blipFill>
          <a:blip r:embed="rId1"/>
          <a:stretch/>
        </p:blipFill>
        <p:spPr>
          <a:xfrm>
            <a:off x="2000160" y="2071800"/>
            <a:ext cx="44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2" descr="C:\Documents and Settings\мама\Мои документы\Мои результаты сканировани\2010-01 (янв)\сканирование0011.jpg"/>
          <p:cNvPicPr/>
          <p:nvPr/>
        </p:nvPicPr>
        <p:blipFill>
          <a:blip r:embed="rId1"/>
          <a:stretch/>
        </p:blipFill>
        <p:spPr>
          <a:xfrm>
            <a:off x="1714680" y="2286000"/>
            <a:ext cx="4836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543800" cy="41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Пока мы делали этот проект, мы узнали, что такое система координат, оси координат, как находить точку по координатам. А самое главное –мы научились рисовать с помощью координат, это нам показалось очень интересным и увлекательным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Picture 8" descr="AG00011_"/>
          <p:cNvPicPr/>
          <p:nvPr/>
        </p:nvPicPr>
        <p:blipFill>
          <a:blip r:embed="rId1"/>
          <a:stretch/>
        </p:blipFill>
        <p:spPr>
          <a:xfrm>
            <a:off x="6429240" y="4286160"/>
            <a:ext cx="18860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Цели: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научиться строить точки по заданным её координатам и определять координаты точки, отмеченной на координатной плоск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1. Ознакомиться с прямоугольной системой координат на     плоск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2. Научиться  ориентироваться на координатной плоскости, четко и аккуратно выполнять геометрические постро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3. Развивать творческие способ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4. Активизировать внимание с помощью применения мультимедий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test"/>
          <p:cNvPicPr/>
          <p:nvPr/>
        </p:nvPicPr>
        <p:blipFill>
          <a:blip r:embed="rId1"/>
          <a:stretch/>
        </p:blipFill>
        <p:spPr>
          <a:xfrm>
            <a:off x="6858000" y="1341360"/>
            <a:ext cx="2286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429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2" descr="систкор"/>
          <p:cNvPicPr/>
          <p:nvPr/>
        </p:nvPicPr>
        <p:blipFill>
          <a:blip r:embed="rId1"/>
          <a:stretch/>
        </p:blipFill>
        <p:spPr>
          <a:xfrm>
            <a:off x="1714680" y="1835280"/>
            <a:ext cx="6215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:\Documents and Settings\мама\Рабочий стол\Координатная плоскость\Декар сист координат рисунки\точка с координ.jpg"/>
          <p:cNvPicPr/>
          <p:nvPr/>
        </p:nvPicPr>
        <p:blipFill>
          <a:blip r:embed="rId1"/>
          <a:stretch/>
        </p:blipFill>
        <p:spPr>
          <a:xfrm>
            <a:off x="2786040" y="2500200"/>
            <a:ext cx="4838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3214440"/>
            <a:ext cx="84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определения координаты точки А опускаем перпендикуля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ь абсцисс – О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ось ординат – О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ная пара чисел (2;3) и есть декартовые координа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чки А (2;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Рисунок 1" descr="прим"/>
          <p:cNvPicPr/>
          <p:nvPr/>
        </p:nvPicPr>
        <p:blipFill>
          <a:blip r:embed="rId1"/>
          <a:stretch/>
        </p:blipFill>
        <p:spPr>
          <a:xfrm>
            <a:off x="1000080" y="214200"/>
            <a:ext cx="59292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исунки на координатной плоск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1213920"/>
            <a:ext cx="83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6),  (-4;6),  (-4;0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;0),   (0;-3),  (-2;-3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-2),   (-4;-2),  (-4;-4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3;-5),  (1;-5),  (2;-4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1),  (1;2),  (-2;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4),  (2;4),  (2;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97"/>
          <p:cNvPicPr/>
          <p:nvPr/>
        </p:nvPicPr>
        <p:blipFill>
          <a:blip r:embed="rId1"/>
          <a:stretch/>
        </p:blipFill>
        <p:spPr>
          <a:xfrm rot="21132000">
            <a:off x="6587640" y="5024160"/>
            <a:ext cx="15051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14560" y="1428840"/>
            <a:ext cx="3895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т такая фигура должна получитс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" descr="C:\Documents and Settings\мама\Мои документы\Мои результаты сканировани\2010-01 (янв)\сканирование0001.jpg"/>
          <p:cNvPicPr/>
          <p:nvPr/>
        </p:nvPicPr>
        <p:blipFill>
          <a:blip r:embed="rId1"/>
          <a:stretch/>
        </p:blipFill>
        <p:spPr>
          <a:xfrm>
            <a:off x="1357200" y="1143000"/>
            <a:ext cx="28465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 flipH="1">
            <a:off x="8714520" y="642960"/>
            <a:ext cx="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0"/>
            <a:ext cx="8572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5),  (8;5),  (9;6),  (9;3),  (8;1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2),  (7;1),  (1;1),  (1;0), (10;-1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;0),  (14;3),  (14;1),  (13;-1),  (10;-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;-3),  (12;-5),  (11;-8 ),  (9;-8),  (10;-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;-5),  (8;-7),  (7;-8),  (5;-8),  (6;-7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-5),  (3;-5), (3;-8), (1;-8),  (0;-5),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1;-7),  (-3;-8),  (-3;3),  (-4;3),  (-4;-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5;-4),    (-7;-4),  (-7;4),  (-6;6),  (-4;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4;8),  (-2;9),  (0;9),  (2;7),  (2;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Documents and Settings\мама\Мои документы\Мои результаты сканировани\2010-01 (янв)\сканирование0003.jpg"/>
          <p:cNvPicPr/>
          <p:nvPr/>
        </p:nvPicPr>
        <p:blipFill>
          <a:blip r:embed="rId1"/>
          <a:stretch/>
        </p:blipFill>
        <p:spPr>
          <a:xfrm>
            <a:off x="5072040" y="2000160"/>
            <a:ext cx="3143160" cy="31132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714240" y="1071720"/>
            <a:ext cx="3571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 все правильно и аккуратно выполнили, должен получится такой рисун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5:42:54Z</dcterms:created>
  <dc:creator>1</dc:creator>
  <dc:description/>
  <dc:language>en-US</dc:language>
  <cp:lastModifiedBy>Nicolai</cp:lastModifiedBy>
  <dcterms:modified xsi:type="dcterms:W3CDTF">2011-06-07T10:42:34Z</dcterms:modified>
  <cp:revision>81</cp:revision>
  <dc:subject/>
  <dc:title>Слайд 1</dc:title>
</cp:coreProperties>
</file>